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C8BB-08B6-4103-96DF-DCD2049A3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A442-4E8A-4A0E-BF9B-A277C5EC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93F-16F9-4EAD-A8E4-33DAF83F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25A-702A-4373-9D25-1D155473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90D-B470-471E-93C2-564B0BE2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3B6-7444-4382-8628-2D523BFE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A51F-D8B2-46D7-B3D9-0D72E21F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C842-8FC3-4ED9-B49C-0E7700C7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F11E-006D-410B-843E-9213BCB1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8874-05A8-46FA-B717-6925A701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1BC0-7846-47FE-A073-DB2B2C12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4B99-1B7D-4AFB-97CB-3FE15E5F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88C8-AFDD-4AD0-BAC2-AD6DC50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B4A-75E8-4057-983A-33C95543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F371-0069-4ED8-B1C6-5BBE3E8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A305-206B-4305-BD7B-66052A75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6A3-8F74-447C-8A04-B5DF9EE5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0DF8-78DF-4E72-B22F-8ACBA6D4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7F4B-ADAF-4081-98C7-E2E1BD97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AE9-D7F3-4191-B798-F0B7E5F8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229-58F0-4EBE-9DBD-24867289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B6F-5511-4545-A215-33855FD1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E91-4F25-4A0E-92D4-209ABCB2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432-A151-46D4-A255-A0DB6E0A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80A-EBE0-4C73-ABD1-31F932B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1DE-CCCF-4204-B042-808EB2E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E6D1-54E6-48B1-A8AF-88B231B7DA0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ABEB-559C-4D9D-9A47-E2B34DE2BE8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ociety and Relig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and political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formation first broke out in the Free Imperial cities in Germany and Switzer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lds were often on the forefront of Re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wiss 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rich Zwing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istically educated, he credited Erasmus as setting him on the path to re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1518 he was known for his opposition to the sale of indulgences and religious superst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519 Zwingli became the people’s priest in Zu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ed priestly celib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1522, broke the Lenten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ached the authority of Scripture a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a Protestant, he had significant theological differences with Luther, which prevented an alliance with the German Prote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wiss Civil war forced the Swiss Catholics to recognize the Protes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nabaptists &amp; Radical Protestan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rad Grebel and the Swiss Bro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used to baptize children, believing that only a consenting adult can accept Chr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ly separated themselves from secular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abaptist reign in Mu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ch emigrants led an Anabaptist takeover in 1534-15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eatures of the regime included charismatic leaders and polyga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as crushed by united Protestant and Catholic arm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adic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ritualists rejected institutional 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trinitarians  rejected the Tr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John Calv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in France and educated by the Church in May 1534 he joined the Re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revolt and religious reform in Gen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e 1520s Genevans revolted, and in 1527 the city council took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1, 1536 Geneva officially adopted the Re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1536 Calvin arrived in Gen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rew up articles for the governance of the Church, which were approved, after much debate, in 15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lvin’s Genev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urch was organized into four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to instruct the popu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ders, laypeople chosen by the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cons to dispense church goods and services to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estination, the doctrine that only a chosen few are saved by God’s grace alone, without regard to acts or faith, was central to Calvin’s the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et of Augsbur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530, Charles V presided over this meeting of Protestants and Catholic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mperor ordered all Protestants to return to Cathol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1531, Schmalkaldic League formed to defend Lutheran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pa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out the 1530s German Lutherans formed regional consistories, judicial bodies which oversaw the new Protestant Chur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formation spread to Denmark and Sweden, and made inroads in Po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1540s Charles V went after the Prote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47, He crushed the League, putting puppet rulers in Hesse and Saxony and forcing Protestants to return to Catholic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rotestants fled to Magdebu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eace of Augsbur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formation was too entrenched by 1547 to be 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ppet ruler of Saxony became a Luthe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mperor was forced to re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1555, The Peace of Augsburg made the division of Christendom perma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ius reg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us relig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uler of a land determines its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therans were permitted to retain church lands confiscated before 15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id not extend recognition to Anabaptists and Calvin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glish 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and was a likely breeding ground for Protestantism, but its advance was s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 had a reputation for maintaining the authority of the crown against the p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ere already many secret Prote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llardy and Humanism also were infl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nry V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supported the Pope against Lu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ry’s first wife, Catherine of Aragon, did not provide him a son.  He wanted an annulment in order to marry Anne Boleyn, which was not gra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suggested that he declare himself supreme in English spiritual affairs, which would solve 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ormation Parliament”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529 Parliament convened for what would be a seven year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d legislation that eventually put the clergy under the authority of the 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531, the king was made officially the head of the church in Eng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32, published official grievances against the chu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34, ended all payments to Rome and gave Henry sole jurisdiction over ecclesiastical appoint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year the Act of Supremacy declared Henry “The only supreme head of the Church of Englan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ese changes, Henry did not make many concessions to Protestant sensibilities, retaining most of the ritual and doctrinal trappings of Catholic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opular Religious Movements and Criticism of the Chur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ormation could not have happened without the earlier challenges to the Church’s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ignon pap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 Sc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iliar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naissance pap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 criticism of the church was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ought a more egalitarian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dward V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Henry died, his 10 year old son , Edward VI, took over the thr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under several re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cted a series of reforms, bringing the Church of England more in line with Protestant Eng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553 Edward died, leaving his Catholic half-sister Mary as queen.  She quickly reversed the re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Counter-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before the Reformation, Catholics had begun to make efforts at reforms, but they were squa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 Reformation set in, new religious orders had begun to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24, Theatines to groom church l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28, the monastic Capuch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esuits were the most successful of the reform mov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ed by Ignatius Loyola in the 1530s, it was recognized in 154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a military model, he wanted people to be “soldiers of Chris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ached self-mastery through discipline, self-sacrifice and obed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uncil of Trent (1545–1563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ccess of the Reformation forced the Church to call a general council, in order to reassert doct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reparation the pope appointed liberal theologian Caspar Contarini to head a reform commi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uncil was strictly under the pope’s control.  Its most important reforms concerned internal discip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shops needed to preach regularly and spend time in their dioce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ests were required to be neatly dressed, educated and strictly celib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octrinal concessions were made to the Protest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reaffirmed many key doctrines such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role of good 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authority of tra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ulg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rs initially resisted the reforms, but eventually the new legislation took h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ligious life in fifteenth century citi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ergy were ubiqui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ly life was regulated by the calendar, with frequent fasts and festiv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steries and nunneries were influent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many Catholic clergy had concubines and children, and were often resented by lay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me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estant rejection of celibacy accompanied  their rejection of the Medieval tendency to degrade women as temptresses or exalt them as virgins.  Instead they praised women as mothers and housew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riage was viewed as a partnership between man and w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had right to divorce and remarry, just as men 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ives remained subject to their husb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amily Life in Early Modern Europ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1500 and 1800 men and women married later than they ha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: mid to late 2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men: early to mid 2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s tended to be arranged, however it was usual for the couple to have known each other, and their feelings were often res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consisted of two parents and two to four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urch and physicians condemned those who hired wet n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ditional family had features that seem cold and distant.  The pragmatic was often stressed over the roman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formation did not only bring about cultural  changes.  There were also major innovations in lit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 De Cervantes Saavedra was a Spanish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major work w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 Quix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was a satire of the chivalric romances popular in Spain.  The juxtaposition of idealism and realism in the novel was very innov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am Shakespeare was an English playw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wrote histories, tragedies and come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work struck universal human themes, many of which were rooted in contemporary religious tra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rtin Luther &amp; the German 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Medieval Germany lacked the political unity to enforce large scale religious re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1517 discontent with the church was ripe enough for Martin Luther’s critiques to take 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7, Luther was ord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0, On his visit to Rome, he found the German complaints about the Church to be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, He earned his doctorate in Theology at the Augustinian Monastery in Witten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Justification by fai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ther was plagued by his sense of a disconnect between  his own sinfulness and the perfect righteousness God required for sal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concluded that God does not demand charitable acts and religious ceremonies, but just faith in Jesus Christ as perfect righteousness.  Good works were expected, but did not earn one sal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dulg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a priest could absolve a penitent of guilt, he still had an eternal penalty to pay. Absolution could turn that into a temporal punishment.  The remission of that temporal penalty was an indul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in 1343 the church started selling “letters of indulgenc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Luther’s time, they were often sold for small cash pay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ther’s protest in his Ninety-five Theses (October 31, 1517) was against the impression that indulgences remitted sin, which made it seem as if salvation could be bought and s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rles V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inety-five Theses were embraced by Nuremberg humanists, which made Luther a central figure in an already organized national German cultural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 called before the general of his order to answer for his critic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anctions were being prepared against him, Emperor Maximillian I died (1519), which turned attention away from Lu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les I of Spain succeeded his Grandfather and became Emperor Charles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uther’s Excommunication and the Diet of Worm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7, 1519, Luther debated John Eck in Leipzig,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ed the infallibility of the pope and the inerrancy of church counc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led to the authority of scripture al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views were published in 152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ther was excommunicated on June 15, 1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et of W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ided over by Charle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ther presented his views and was placed under the Imperial ban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ther was forced into hiding, protected by the Elector Frede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pread of the 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mperor was distracted by war with the French and the Tu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ted each local prince to enforce the ban as he saw fit, essentially giving them each religious authority in his own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ny cities, princes began to enact religious reforms, and they welcomed Lutheran preac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or of Saxony and the prince of Hesse both instated Protestantism in their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1530s German Protestant lands formed the Schmaldkaldic League and prepared for war with the empe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easants’ Revol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asants initially saw Luther as an ally, asking him for support in their demands to end serfdom and for other economic re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ther initially had sympathy for them, but when they invoked his name in their revolt he called them “unChristi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uther, the freedom of Christianity lay in inner spiritual release, not revolutionary poli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volt was crushed, killing tens of thousands of pea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9:57:29Z</dcterms:created>
  <dc:creator>J. Russell</dc:creator>
  <dc:description/>
  <dc:language>en-US</dc:language>
  <cp:lastModifiedBy>Don Books</cp:lastModifiedBy>
  <dcterms:modified xsi:type="dcterms:W3CDTF">2011-09-16T17:22:58Z</dcterms:modified>
  <cp:revision>10</cp:revision>
  <dc:subject/>
  <dc:title>Society and Religion</dc:title>
</cp:coreProperties>
</file>